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C2C-13F1-4CD4-A285-9686F120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2E5-6CDD-4E6B-9770-3FF1AF27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A675A-0134-4EBB-A946-7F3137A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31E40-30C8-43A7-B936-9FEAEC8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58817-8243-4DFB-93A1-6FB4EF06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53342-BC60-44CE-BDA5-BD1F502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E079F-52A3-44AE-9F20-205B6FC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4D959-D872-4688-A0AE-FC109F60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A74D8-E55C-4172-8C4A-56C802C1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9BF14-4C16-4FD4-9EB8-CCD3A0C0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9CA50-928E-444D-BC38-7F998434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05344-9F7E-4F6E-80DA-6556C99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BEC-6485-477F-9817-699CEDF2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F5B3E-6BF2-4F04-A659-7F3D899C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D3486-E4F8-4549-A2EB-1BA6F243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9A095-00DF-4713-8797-C7AF5E7E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8066-0AF5-4DBB-97C1-1FBC7C0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7A72-8AC4-4D2E-95F7-AD7E1C92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D0D82-E5A8-41BD-B1EE-E40D565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5C3B-1F16-48B3-8FFC-4D60E69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B24F5-A521-4E8C-9DDE-080BE642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2CC91-8C72-4EF0-AB89-B50D576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9283-FF57-4F99-A65D-C974ABC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9B1-62FD-4FFB-B621-802AF58C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3E2C7-4EE1-4DF9-8444-03D54753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84F19-3904-47D5-A901-2D784431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E3373-B198-4068-AE0C-4380D0A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1648-5B45-4121-AD90-3301DF1F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342D9-6FB7-4832-B50E-3F5B18A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8B740-93D1-4344-8847-0938B71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62780-09D3-42A8-AE2B-65FBCF9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42645-7AB8-4650-8A9D-9DA95B8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4D576-CA6D-4B0D-A17F-4B8F448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12FB9-C4A3-45CA-B7ED-8BFD134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D0B0-9A78-4A0F-A38C-8E85FCB4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9C329-62F3-4B8E-859C-2CD99FF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A375-9DF8-4E48-8EE2-7FC1318E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AEE4E-2848-41FB-A633-56C10BE5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BB5C0-09F1-4B7C-B2CD-11067587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AE11D-35B7-421A-B63A-01E430D3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234B6-335C-46E4-8EE7-2DCAE558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93743-06C3-4234-B9AE-349ED87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D5168-6428-4C96-B37B-CE41ED0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9C0F3-8D55-4F75-91FE-602EC1FB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48D80-2B25-41F6-A0BB-C8B2A67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7FBC-59EC-4D9B-9F7E-513F2C9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2F97D-E102-4159-90EA-1361D7D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68E5-0A7F-48C9-AD0E-F1D7D3E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00CB7-3511-4047-817C-CCED09A3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15DB3-1F32-48DF-9E79-4316B64D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CF6AE-86E5-4FAA-ABB0-EAADA3A4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B5B28-B600-446F-B568-A4095AFF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EC1E3-C6B6-4997-98D9-3CBF98A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80799-FE68-4002-BD2A-C1B5FFE5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065B6-5E71-4939-BFCC-CC98466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18AFE-04D2-4C0B-ACA2-B82BF05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749E-49F2-47BB-B5FC-BA0447CB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DFDE3-42B7-4DE5-901F-25EE4EE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7FEBD-6C62-47B2-8215-1E0BE03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02CF3-3590-429A-B7E9-528648D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76B03-4011-4348-BDE9-40137DD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8477E-9787-4561-99B8-9D14193C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F30E4-61D7-448A-9198-378AC351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8F6D2-D586-42BA-B030-A7D3C3FE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07CB2-B7D5-4D5F-986B-9925029B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CF49B-0BA9-423B-8FF8-DC06A9E7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24A59-4281-4E7A-A120-0C3F79B9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2D88-2093-4062-9618-DC8C4A1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A6908-6F14-4687-AFFF-284504F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28CA7-8B30-45E8-8957-E120C63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965BF-C8BC-4B9A-A2F0-A3F99F52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50F6B-39AB-4194-9C4B-CDA5822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5F557-11D6-41CC-A52D-FDC55DAA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16366-3804-42E7-A761-73D20F7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5FD6A-0DE4-4CA3-99CA-1FD82C61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98324-CD80-4387-800D-23770C9A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B36F0-4E00-4226-B217-D3CA821A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3734B-C52D-49E6-89A5-C5B23087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2424-7196-4912-9CAD-72BECAA1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8E5A7-90DB-4A67-8C93-7F5BE59F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B5466-2EFA-4461-9FD8-99D629E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B546E-E37B-4363-BA31-073C36C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C7494-D926-43FA-82B5-2968335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BD8C0-96DC-4035-8457-FF194766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3D2C1-1886-4745-8B1A-E8FF8E9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3C131-270F-496E-B4D7-C33119A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92A42-CF74-41E9-B157-49F4CABD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69169-4125-4636-8255-E68DA73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E80F6-1174-466E-8B71-402F0F3A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4EC2-D323-4723-80FE-E0EE4FA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BBF30-2DFB-43EE-B0E0-30AB4291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E2289-BDBD-4742-9BCA-2D8FE194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AE450-13D0-44FA-9F38-EB2894EC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D0767-C9BD-4028-98F3-7B7E7232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E2B44-65FA-4F36-A31D-9C380150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CBDD8-31C7-4599-AAEE-4C24FF4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88EC8-6F36-47A9-9F1F-3551D29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3100C-1D55-4A98-8036-4A42155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5A43F-5935-4427-9D4C-6D56213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E688A-ED62-4412-BB9A-DEA2B467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4D00-36B9-43B2-8440-B7B032F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11103-59A4-49D6-AA1D-7654F61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B8C20-997C-4A5A-8325-83EC83C8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4C052-2811-4642-ADE2-993BF036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FE0AC-D6E0-47A0-AACD-939F888B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1F46F-DFFA-4C45-A376-9F41D941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55408-3DF1-44A2-892D-46A73BB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6621B-4BE6-45C9-910D-47DA615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9A2E9-67F3-48E2-A9CE-350BD6B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1557A-FAF1-47E8-8205-588E6F30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67391-34E2-454D-A83C-0D0FA1A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4BB-62FA-47E0-87A6-316AA1C3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D664-D85B-4404-A595-0C7C9E5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64EBA-1FD3-4FFC-BCD4-A094EF3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2A151-01B1-4ED9-811D-A4F151F6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89C3C-D58E-405B-B2E5-CB36518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9B2E2-2738-4365-8630-C046C088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8F054-6DF5-4484-83A4-14C1F04C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B47D-7E0A-4AE5-ACF0-1240F38D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948B-4AC3-42D8-B438-57FDBFCC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F790-32C1-48E8-9861-E8A1C1A4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C329-354F-47A0-8D89-E191103B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7263-5461-4344-9996-2C10EF61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E8E0-A279-4959-A0EA-AA68B602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859F-A976-439D-BF0A-C8D6CC37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1CCA-5452-46BB-BCC6-4069EBF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5F7F-F43C-46E8-B528-AE6ADA98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352-6646-4399-B9B0-946548AC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900A-EE7F-4A04-A469-3200B568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82CC-0218-4C4E-ABDC-4500C6EA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B1E0-A2B5-45C6-9079-A472149B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7B5C-B49C-4735-BFC2-D66A633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FB9F-B85A-4A9F-8072-3F138205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2020-4304-44BC-849A-3D5DAD99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D8AA-ECAC-438D-A25A-E2DC1A9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4147-C28A-4AB1-9F20-9C99EF2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23AE-0437-4BC9-BFAB-4FB6154B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39D2-4C6C-4734-B1AF-F9212BF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F9D-C285-409B-98DF-3486820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F6C8-4132-4A0F-8ADD-A82D0CE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BBDD-6DEF-43D3-A839-9ABA922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CC90-BB95-4D1D-988A-45961405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FA59-4822-431D-9B62-E30B83F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D7CC-249C-4E15-A2F0-2DD65FA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1E64-5E19-4056-9427-A9F5131B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8814-7315-4446-AFFA-353E110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2F33-7742-489F-BB59-24360FDA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B9B5-94DB-4102-9C57-B9EAE10A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7074-AB52-401E-BED0-FCCC8DAE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9D6-AB68-4C76-8531-42262EA5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C5B2-FB4C-489C-A4E9-A765B795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425E-84A5-4EBB-8555-7563126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385B-825E-49B8-BFA4-2B5617D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F18AF-FDC6-49EC-93DA-B60B862D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4F3D-78D7-4CAC-B923-80106936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68E3-4DE3-4643-BCFA-7EAF9D6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D8BF-9639-4856-BC68-57ABF7D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08628-2FD8-4058-A87C-5B64E28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6DC3-4E05-4253-AEA3-1926979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7D20-0069-4247-839D-6BC44196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472-4B29-4868-88EE-5F23237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F35A-6780-4309-ABF1-523779C9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1D4ED-724B-4F10-B015-D990082C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4F12-C422-45BF-903F-4363EFE4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992E-EB47-4670-9492-B1FC7157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3702-2145-4FF5-98B9-FC090B29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DBC6D-05A1-4278-8E5D-3D64A354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A4CEC-901D-42BF-86B1-98B35C11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9111-BBD3-4C55-867D-EB2B70A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7F14-C1A7-461C-AE53-6AABF1F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76B9-19F5-42D7-B9B5-CC954C4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124-AAB0-4200-B5C8-F538E4A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69135-D90C-4F9C-996A-212DD82A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B747-A865-4D37-B9FC-D505833F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D671-A3A1-408B-9F70-2CA16CBE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956C8-6D84-4FAB-983D-C3D83F48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2F18-EAD6-47A0-A1A3-D187FEEE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C00A-EBB1-4EBC-84EB-1DBD5D1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B8BF8-0C37-4639-9928-A95BB466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0443-A901-4055-AB4B-39981062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4771-0536-468A-90AC-128C9F69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2FD9-6F8E-4D8C-B6B9-BCEC30B2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0F2-B0CF-4467-A528-B28DC62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E7A08-67E5-4F0D-864C-6F85BAA1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2D35-3B36-47E9-BB1E-1D1DC35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D7D02-A91C-45EE-A031-877B283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211F3-05BC-4466-9E2A-C9043CF8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8BBAC-5E82-4DC9-B0FE-069E7A05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57384-5E3B-4D40-AF24-AD0D5D96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D763-9572-4A76-9268-3D058AE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4222C-7EF8-437D-82AF-5A1833F7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95A05-F358-49A2-AF6C-111982B9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E5984-D7DF-4408-9FD8-6A0B9E3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567-7244-411F-8E16-8174D8B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418EE-2B3F-4CA2-93E9-6B455B9D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5547-5A79-4A35-A35A-BA43A25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A3801-863C-4070-B7A4-340BDE7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733C-317F-434B-81C8-6A5F9860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FFAA8-8240-401D-AA41-1EAAB622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48BD-0D9C-44E7-8CF9-52B2C668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3B9D-81E5-4031-9D3C-19354672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74D49-5CF4-4450-ADFE-30FB956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87FDE-175F-415A-8DC5-020C995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43843-A24A-4F48-B198-AA2B1DA8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369B4-1D44-4328-BA8E-D281E48D7E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48D71-4906-4F2A-83F8-CFDDA452B0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7AAA4-EB09-4FEE-ABB3-A624BAED3C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6902E-63E9-46FC-BF1B-9621C9FAF4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C920C-410A-49AE-A17A-67AB9CA9E7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54282-59D7-422F-AA8E-94862858A2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63EAE-1FA9-4088-9AE5-8379A8222B1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333A2-DC1D-4142-AADC-52E08C8695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0092F-3B3C-44FC-9F11-2447753535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34DF1-6DEB-4754-9ACA-76BE48C976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F9F68-3592-45D0-A63B-B40BD16D35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F9988-3BA3-48FC-B167-4CAE7CF080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5555D-7F6F-4DB8-8BAB-FD0FC9B67B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D4A9B-585E-44E9-A090-2CF7F813F7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9A82-2367-417A-B14F-A70CA2E57B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ECA7A-A2C5-44DF-906C-F886BC06BA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74566-3708-4052-ADB6-725CE7EF2C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Использование платформы </a:t>
            </a:r>
            <a:r>
              <a:rPr b="0" lang="en-US" sz="4900" spc="-1" strike="noStrike">
                <a:solidFill>
                  <a:srgbClr val="262626"/>
                </a:solidFill>
                <a:latin typeface="Century Gothic"/>
              </a:rPr>
              <a:t>Plickers </a:t>
            </a: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на уроках биологии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710480" y="4879800"/>
            <a:ext cx="53020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Учитель естествозна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МАОУ «Лицей № 142 г. Челябинска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Кириллова А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Преимущества сервис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620360" y="1734840"/>
            <a:ext cx="100393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экономия расходных материалов и времени при проведении фронтального опроса, оценивания, фиксирования результатов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создание тестов и опросов в соответствии с образовательными потребностями каждого класса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организация образовательного взаимодействия вносит элемент новизны, что мотивирует детей, повышает познавательный интерес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</a:rPr>
              <a:t>может применяться, начиная с начальной школы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Использование платформы </a:t>
            </a:r>
            <a:r>
              <a:rPr b="0" lang="en-US" sz="4900" spc="-1" strike="noStrike">
                <a:solidFill>
                  <a:srgbClr val="262626"/>
                </a:solidFill>
                <a:latin typeface="Century Gothic"/>
              </a:rPr>
              <a:t>Plickers </a:t>
            </a: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на уроках биологии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7710480" y="4879800"/>
            <a:ext cx="53020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Учитель естествозна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МАОУ «Лицей № 142 г. Челябинска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Кириллова А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639800" y="6710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Что такое plickers?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9" name="Объект 4" descr=""/>
          <p:cNvPicPr/>
          <p:nvPr/>
        </p:nvPicPr>
        <p:blipFill>
          <a:blip r:embed="rId1"/>
          <a:stretch/>
        </p:blipFill>
        <p:spPr>
          <a:xfrm>
            <a:off x="7977240" y="206280"/>
            <a:ext cx="3778200" cy="3778200"/>
          </a:xfrm>
          <a:prstGeom prst="rect">
            <a:avLst/>
          </a:prstGeom>
          <a:ln w="0">
            <a:noFill/>
          </a:ln>
        </p:spPr>
      </p:pic>
      <p:sp>
        <p:nvSpPr>
          <p:cNvPr id="1180" name="TextBox 6"/>
          <p:cNvSpPr/>
          <p:nvPr/>
        </p:nvSpPr>
        <p:spPr>
          <a:xfrm>
            <a:off x="8340840" y="398448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plickers.c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1" name="Picture 2" descr=""/>
          <p:cNvPicPr/>
          <p:nvPr/>
        </p:nvPicPr>
        <p:blipFill>
          <a:blip r:embed="rId2"/>
          <a:stretch/>
        </p:blipFill>
        <p:spPr>
          <a:xfrm>
            <a:off x="2819520" y="1603440"/>
            <a:ext cx="3778200" cy="3778200"/>
          </a:xfrm>
          <a:prstGeom prst="rect">
            <a:avLst/>
          </a:prstGeom>
          <a:ln w="0">
            <a:noFill/>
          </a:ln>
        </p:spPr>
      </p:pic>
      <p:sp>
        <p:nvSpPr>
          <p:cNvPr id="1182" name="TextBox 8"/>
          <p:cNvSpPr/>
          <p:nvPr/>
        </p:nvSpPr>
        <p:spPr>
          <a:xfrm>
            <a:off x="1486080" y="5572080"/>
            <a:ext cx="1001844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 (Основной текст)"/>
                <a:ea typeface="Aptos"/>
              </a:rPr>
              <a:t>Облачный сервис для мгновенного сбора обратной связи от аудитории при помощи сканирования бумажных карточек через мобильное устройств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615680" y="404280"/>
            <a:ext cx="1030284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 (Заголовки)"/>
                <a:ea typeface="Aptos"/>
              </a:rPr>
              <a:t>Для применения данной платформы на уроке нужны 3 вещи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615680" y="1856880"/>
            <a:ext cx="1047276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персональный компьютер с выходом в Интернет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смартфон у учителя под управлени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Gothic (Основной текст)"/>
                <a:ea typeface="Times New Roman"/>
              </a:rPr>
              <a:t>iOS</a:t>
            </a: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Gothic (Основной текст)"/>
                <a:ea typeface="Times New Roman"/>
              </a:rPr>
              <a:t>Android</a:t>
            </a: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 с мобильным приложением и устойчивым мобильным интернетом;</a:t>
            </a:r>
            <a:r>
              <a:rPr b="0" lang="ru-RU" sz="2800" spc="-1" strike="noStrike">
                <a:solidFill>
                  <a:srgbClr val="404040"/>
                </a:solidFill>
                <a:latin typeface="Century Gothic (Основной текст)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проектор и экран для визуализации образовательного материала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карточки с QR кодам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2" descr=""/>
          <p:cNvPicPr/>
          <p:nvPr/>
        </p:nvPicPr>
        <p:blipFill>
          <a:blip r:embed="rId1"/>
          <a:stretch/>
        </p:blipFill>
        <p:spPr>
          <a:xfrm>
            <a:off x="7889760" y="4335480"/>
            <a:ext cx="37656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4295880" y="5789520"/>
            <a:ext cx="3905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1. Регистрация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AutoShape 2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8" name="Picture 6" descr=""/>
          <p:cNvPicPr/>
          <p:nvPr/>
        </p:nvPicPr>
        <p:blipFill>
          <a:blip r:embed="rId1"/>
          <a:stretch/>
        </p:blipFill>
        <p:spPr>
          <a:xfrm>
            <a:off x="1422360" y="555480"/>
            <a:ext cx="9651960" cy="50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2588760" y="2133360"/>
            <a:ext cx="8915400" cy="3778200"/>
          </a:xfrm>
          <a:prstGeom prst="rect">
            <a:avLst/>
          </a:prstGeom>
          <a:ln w="0">
            <a:noFill/>
          </a:ln>
        </p:spPr>
      </p:pic>
      <p:pic>
        <p:nvPicPr>
          <p:cNvPr id="1191" name="Рисунок 6" descr=""/>
          <p:cNvPicPr/>
          <p:nvPr/>
        </p:nvPicPr>
        <p:blipFill>
          <a:blip r:embed="rId2"/>
          <a:srcRect l="6187" t="13610" r="1031" b="10653"/>
          <a:stretch/>
        </p:blipFill>
        <p:spPr>
          <a:xfrm>
            <a:off x="55440" y="281160"/>
            <a:ext cx="12080880" cy="5546520"/>
          </a:xfrm>
          <a:prstGeom prst="rect">
            <a:avLst/>
          </a:prstGeom>
          <a:ln w="0">
            <a:noFill/>
          </a:ln>
        </p:spPr>
      </p:pic>
      <p:sp>
        <p:nvSpPr>
          <p:cNvPr id="1192" name="Объект 2"/>
          <p:cNvSpPr/>
          <p:nvPr/>
        </p:nvSpPr>
        <p:spPr>
          <a:xfrm>
            <a:off x="2851200" y="6116760"/>
            <a:ext cx="648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2. Создание списка кла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Прямоугольник 4"/>
          <p:cNvSpPr/>
          <p:nvPr/>
        </p:nvSpPr>
        <p:spPr>
          <a:xfrm>
            <a:off x="55440" y="5259240"/>
            <a:ext cx="1141560" cy="255600"/>
          </a:xfrm>
          <a:prstGeom prst="rect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2588760" y="2133360"/>
            <a:ext cx="8915400" cy="3778200"/>
          </a:xfrm>
          <a:prstGeom prst="rect">
            <a:avLst/>
          </a:prstGeom>
          <a:ln w="0">
            <a:noFill/>
          </a:ln>
        </p:spPr>
      </p:pic>
      <p:sp>
        <p:nvSpPr>
          <p:cNvPr id="1196" name="Объект 2"/>
          <p:cNvSpPr/>
          <p:nvPr/>
        </p:nvSpPr>
        <p:spPr>
          <a:xfrm>
            <a:off x="2851200" y="6116760"/>
            <a:ext cx="6489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3. Создание тест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7" name="Рисунок 4" descr=""/>
          <p:cNvPicPr/>
          <p:nvPr/>
        </p:nvPicPr>
        <p:blipFill>
          <a:blip r:embed="rId2"/>
          <a:srcRect l="6187" t="13610" r="1031" b="10653"/>
          <a:stretch/>
        </p:blipFill>
        <p:spPr>
          <a:xfrm>
            <a:off x="55440" y="281160"/>
            <a:ext cx="12080880" cy="5546520"/>
          </a:xfrm>
          <a:prstGeom prst="rect">
            <a:avLst/>
          </a:prstGeom>
          <a:ln w="0">
            <a:noFill/>
          </a:ln>
        </p:spPr>
      </p:pic>
      <p:sp>
        <p:nvSpPr>
          <p:cNvPr id="1198" name="Прямоугольник 5"/>
          <p:cNvSpPr/>
          <p:nvPr/>
        </p:nvSpPr>
        <p:spPr>
          <a:xfrm>
            <a:off x="115920" y="1338120"/>
            <a:ext cx="1334880" cy="255600"/>
          </a:xfrm>
          <a:prstGeom prst="rect">
            <a:avLst/>
          </a:prstGeom>
          <a:noFill/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rcRect l="7570" t="5911" r="5420" b="52442"/>
          <a:stretch/>
        </p:blipFill>
        <p:spPr>
          <a:xfrm>
            <a:off x="272880" y="395280"/>
            <a:ext cx="596772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0" name="Объект 2"/>
          <p:cNvSpPr/>
          <p:nvPr/>
        </p:nvSpPr>
        <p:spPr>
          <a:xfrm>
            <a:off x="1417680" y="514440"/>
            <a:ext cx="4822920" cy="13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4. Проверка знани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1" name="Picture 4" descr=""/>
          <p:cNvPicPr/>
          <p:nvPr/>
        </p:nvPicPr>
        <p:blipFill>
          <a:blip r:embed="rId2"/>
          <a:srcRect l="8122" t="54906" r="6932" b="20002"/>
          <a:stretch/>
        </p:blipFill>
        <p:spPr>
          <a:xfrm>
            <a:off x="6365880" y="963720"/>
            <a:ext cx="5826240" cy="17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2" name="Picture 6" descr=""/>
          <p:cNvPicPr/>
          <p:nvPr/>
        </p:nvPicPr>
        <p:blipFill>
          <a:blip r:embed="rId3"/>
          <a:stretch/>
        </p:blipFill>
        <p:spPr>
          <a:xfrm>
            <a:off x="2370240" y="3370320"/>
            <a:ext cx="7451640" cy="3429000"/>
          </a:xfrm>
          <a:prstGeom prst="rect">
            <a:avLst/>
          </a:prstGeom>
          <a:ln w="0">
            <a:noFill/>
          </a:ln>
        </p:spPr>
      </p:pic>
      <p:sp>
        <p:nvSpPr>
          <p:cNvPr id="1203" name="Прямоугольник 8"/>
          <p:cNvSpPr/>
          <p:nvPr/>
        </p:nvSpPr>
        <p:spPr>
          <a:xfrm>
            <a:off x="6372360" y="971640"/>
            <a:ext cx="1960560" cy="23796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зульта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2588760" y="2133360"/>
            <a:ext cx="8915400" cy="377820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4" descr=""/>
          <p:cNvPicPr/>
          <p:nvPr/>
        </p:nvPicPr>
        <p:blipFill>
          <a:blip r:embed="rId2"/>
          <a:stretch/>
        </p:blipFill>
        <p:spPr>
          <a:xfrm>
            <a:off x="36360" y="1309680"/>
            <a:ext cx="121557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едостатки сервис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1335240" y="1784160"/>
            <a:ext cx="104392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версия англоязычная, требуется перевод для определения значений навигационных кнопок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можно использовать только простую форму ответов да/нет и одиночный выбор из 4 вариантов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необходимо устойчивое интернет-соединение, как у ПК, так и у мобильного устройств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 (Основной текст)"/>
                <a:ea typeface="Times New Roman"/>
              </a:rPr>
              <a:t>возможность у учеников подсмотреть отве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4T14:50:46Z</dcterms:created>
  <dc:creator>Admin</dc:creator>
  <dc:description/>
  <dc:language>en-US</dc:language>
  <cp:lastModifiedBy>OG</cp:lastModifiedBy>
  <dcterms:modified xsi:type="dcterms:W3CDTF">2024-04-24T02:15:49Z</dcterms:modified>
  <cp:revision>2</cp:revision>
  <dc:subject/>
  <dc:title>Использование платформы Plickers на уроках биологии</dc:title>
</cp:coreProperties>
</file>